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376-3CDB-4FD9-A150-6BBDAA67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7F5F-55FD-4121-8CFE-384A5630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A74-2016-48E8-AF5E-926F0914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0DD7-8386-45D0-A380-D2AAA4E9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2B84-46ED-48D4-8901-0EE5963E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2D92-F2B2-49BA-8CB2-92D9E331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7ADC-B7A2-40E0-93EC-376877C8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12B9-B6E1-418D-8589-D9D97F99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FF39-818C-4C46-AFE9-A80D70B6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B06C-5AE8-4247-A730-A8D2314D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5B48-2DE7-4E16-9CDB-48306C75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59E-B635-43F2-86AF-395E5B51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F720-BA04-4ADC-9A77-A32A55C5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3625-4389-4C19-83EC-6CAE22C4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97AE-D3B3-4946-B65C-523BB436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ACA6-5780-4761-AB3B-967FB207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E27F-F5A4-41F2-B70F-FFA77C83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E56-3C99-4507-8AF7-455DF7B7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BC8-D2E1-4F4A-B592-4EE7C83A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A166-CCB8-4097-A16F-9ABE7049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0F9D-1435-49A1-A4B7-0AAF27F9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90B3-08D8-42C9-8415-4621FFD1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871-DD4C-47FF-BB80-791DD7D6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446-DED3-4C84-A61B-95246C10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E797-5224-4323-A8AA-846662E358E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F286-F0C6-4D92-86C7-6E99222E776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ssignment revisited: interviewing and troubleshoot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earning English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sic Interviewing Ski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sure the interviewee is comfor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lain the purpose of the study  and give assurance of confidenti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k permission to reco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k a series of ‘easy’ questions to start with (e.g. where are you from/how long have you been in England/at Aston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ive the interviewee time to answer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n’t talk over the interviewe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nk about the kind of questions you ask (open/clos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interested in the interviewee’s answers and respond to the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 interview is a social encounter: demonstrate interest in the interviewe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 kinds of int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mi-structu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ctu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mi-structured interview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viewer has a list of topics or questions to be cove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viewer can ask other questions not on the list or can ‘probe’ to get an expanded response e.g. a follow up question, a period of silence, back channe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nterview can go ‘off track’ for some 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‘case study’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769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velopment of detailed, intensive knowledge about a single ‘case’, or of a small number of related cases’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Robson 2002:89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ndividual case stud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tailed account of one person.  Tends to focus on antecedents, contextual factors, perceptions and attitudes preceding a known outcome (e.g. drug use; immigrant status).  Used to explore possible causes, determinants, factors, processes, experiences etc., contributing to the outcome.’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Robson 2002:18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obson C. 2002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Real World Research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ition. Oxford: Blackwe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to include in a Case Stu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verview: why the cs is taking place; the issues being investigate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cedures: how data were collected including access arrangements, resources available, schedule of meetings and so on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port: divide into sections, for example –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ducational and cultural backgrou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urpose for studying English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xperience of language learning in UK and at ho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anguage learning preferenc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iteracy in different languag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ttitude to English and its place in the worl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ttitudes to his/her bilingualism/multilingualis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commendations (about how learner can develop his/her English with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ference to skills and system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ference lis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ppendix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to do 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interview data/learner’s work to illustrate your poi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academic literature to develop your argument/substantiate a clai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clearly but forma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fer to reading/discussions from the module, where relev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learner’s output to inform your recommendations for improve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conside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, you need ethics approval BEFORE starting your researc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k about how to ensure your learner remains anonymou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lude a copy of your questions in the appendi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Jalal – Case Stu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 information does this case study off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ent on the style of writ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y is the quotation included in ‘present situation’, do you thin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o are the ‘Points to Consider’ written for, do you thin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2-08T17:58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